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driveby.wav" ContentType="audio/x-wav"/>
  <Override PartName="/ppt/media/image14.wmf" ContentType="image/x-wmf"/>
  <Override PartName="/ppt/media/LASER.WAV" ContentType="audio/x-wav"/>
  <Override PartName="/ppt/media/image11.wmf" ContentType="image/x-wmf"/>
  <Override PartName="/ppt/media/explode.wav" ContentType="audio/x-wav"/>
  <Override PartName="/ppt/media/zapbig0g.wav" ContentType="audio/x-wav"/>
  <Override PartName="/ppt/media/image12.wmf" ContentType="image/x-wmf"/>
  <Override PartName="/ppt/media/cashreg.wav" ContentType="audio/x-wav"/>
  <Override PartName="/ppt/media/image3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projctor.wav" ContentType="audio/x-wav"/>
  <Override PartName="/ppt/media/image1.wmf" ContentType="image/x-wmf"/>
  <Override PartName="/ppt/media/image22.gif" ContentType="image/gif"/>
  <Override PartName="/ppt/media/image10.wmf" ContentType="image/x-wmf"/>
  <Override PartName="/ppt/media/WHOOSH.WAV" ContentType="audio/x-wav"/>
  <Override PartName="/ppt/media/fastcar.wav" ContentType="audio/x-wav"/>
  <Override PartName="/ppt/media/image6.wmf" ContentType="image/x-wmf"/>
  <Override PartName="/ppt/media/hzipup01.wav" ContentType="audio/x-wav"/>
  <Override PartName="/ppt/media/laser.wav" ContentType="audio/x-wav"/>
  <Override PartName="/ppt/media/zipup202.wav" ContentType="audio/x-wav"/>
  <Override PartName="/ppt/media/image5.wmf" ContentType="image/x-wmf"/>
  <Override PartName="/ppt/media/image2.wmf" ContentType="image/x-wmf"/>
  <Override PartName="/ppt/media/chimes.wav" ContentType="audio/x-wav"/>
  <Override PartName="/ppt/media/camera.wav" ContentType="audio/x-wav"/>
  <Override PartName="/ppt/media/image23.wmf" ContentType="image/x-wmf"/>
  <Override PartName="/ppt/media/whoosh.wav" ContentType="audio/x-wav"/>
  <Override PartName="/ppt/media/image13.wmf" ContentType="image/x-wmf"/>
  <Override PartName="/ppt/media/image8.wmf" ContentType="image/x-wmf"/>
  <Override PartName="/ppt/media/bserie06.wav" ContentType="audio/x-wav"/>
  <Override PartName="/ppt/media/image17.wmf" ContentType="image/x-wmf"/>
  <Override PartName="/ppt/media/image7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A75E-2223-4780-9B9A-A6A4385A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EE7-9C0D-44F6-8844-1F9095EC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6BB-F5E1-4202-9C09-24F7B939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14D-3A19-402A-ADD9-0036FDF5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470-16BC-4A32-8070-525F4CC9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EAF-18A5-48AC-90D4-06A99983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A2A-ED48-49B7-BD2D-EA56E85F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F15-A733-465E-9D7B-D5EAC607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E49-0856-4B66-BB05-11CF8EA2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FC2-A139-47F8-BA4F-42DF0FC0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1F5-6A6A-442B-894E-819E4CF6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BAB-A774-4A90-8C6E-295DC060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1116-1EC8-41F6-A26D-B01521FC3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ashreg.wav"/><Relationship Id="rId17" Type="http://schemas.openxmlformats.org/officeDocument/2006/relationships/audio" Target="../media/chimes.wav"/><Relationship Id="rId18" Type="http://schemas.openxmlformats.org/officeDocument/2006/relationships/audio" Target="../media/zapbig0g.wav"/><Relationship Id="rId19" Type="http://schemas.openxmlformats.org/officeDocument/2006/relationships/audio" Target="../media/zipup202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zipup202.wav"/><Relationship Id="rId23" Type="http://schemas.openxmlformats.org/officeDocument/2006/relationships/audio" Target="../media/bserie06.wav"/><Relationship Id="rId24" Type="http://schemas.openxmlformats.org/officeDocument/2006/relationships/audio" Target="../media/zapbig0g.wav"/><Relationship Id="rId25" Type="http://schemas.openxmlformats.org/officeDocument/2006/relationships/audio" Target="../media/zipup202.wav"/><Relationship Id="rId26" Type="http://schemas.openxmlformats.org/officeDocument/2006/relationships/audio" Target="../media/bserie06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audio" Target="../media/chimes.wav"/><Relationship Id="rId14" Type="http://schemas.openxmlformats.org/officeDocument/2006/relationships/audio" Target="../media/zapbig0g.wav"/><Relationship Id="rId15" Type="http://schemas.openxmlformats.org/officeDocument/2006/relationships/audio" Target="../media/zipup202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zipup202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zipup202.wav"/><Relationship Id="rId22" Type="http://schemas.openxmlformats.org/officeDocument/2006/relationships/audio" Target="../media/bserie06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audio" Target="../media/chimes.wav"/><Relationship Id="rId14" Type="http://schemas.openxmlformats.org/officeDocument/2006/relationships/audio" Target="../media/zapbig0g.wav"/><Relationship Id="rId15" Type="http://schemas.openxmlformats.org/officeDocument/2006/relationships/audio" Target="../media/zipup202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zipup202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zipup202.wav"/><Relationship Id="rId22" Type="http://schemas.openxmlformats.org/officeDocument/2006/relationships/audio" Target="../media/bserie06.wav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image" Target="../media/image22.gif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fastcar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LASER.WAV"/><Relationship Id="rId20" Type="http://schemas.openxmlformats.org/officeDocument/2006/relationships/audio" Target="../media/WHOOSH.WAV"/><Relationship Id="rId21" Type="http://schemas.openxmlformats.org/officeDocument/2006/relationships/audio" Target="../media/LASER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hzipup01.wav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audio" Target="../media/WHOOSH.WAV"/><Relationship Id="rId12" Type="http://schemas.openxmlformats.org/officeDocument/2006/relationships/audio" Target="../media/laser.wav"/><Relationship Id="rId13" Type="http://schemas.openxmlformats.org/officeDocument/2006/relationships/audio" Target="../media/WHOOSH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143000"/>
            <a:ext cx="56386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relation where each input has exactly one outpu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143000"/>
            <a:ext cx="304812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de whether the relation is a function. If it is a function, give the domain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81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Input     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66680" y="3581280"/>
            <a:ext cx="2667240" cy="2295360"/>
            <a:chOff x="1066680" y="3581280"/>
            <a:chExt cx="2667240" cy="2295360"/>
          </a:xfrm>
        </p:grpSpPr>
        <p:sp>
          <p:nvSpPr>
            <p:cNvPr id="48" name=""/>
            <p:cNvSpPr/>
            <p:nvPr/>
          </p:nvSpPr>
          <p:spPr>
            <a:xfrm>
              <a:off x="1066680" y="3581280"/>
              <a:ext cx="266724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buClr>
                  <a:srgbClr val="000000"/>
                </a:buClr>
                <a:buFont typeface="Times New Roman"/>
                <a:buAutoNum type="arabicPlain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buClr>
                  <a:srgbClr val="000000"/>
                </a:buClr>
                <a:buFont typeface="Times New Roman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47920" y="38098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4419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7920" y="441972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7920" y="5638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591192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t a functio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 because 4 goes to both 3 and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90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7. While on vacation, your family traveled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2660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miles in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days. Your average speed was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380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miles per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419200" y="2846520"/>
                <a:ext cx="3524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98108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b. Use the model to find the distance traveled after 1.5 days of trav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828800" y="3759120"/>
                <a:ext cx="48006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905120" y="4724280"/>
                <a:ext cx="36576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143000"/>
            <a:ext cx="56386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relation where each input has exactly one outpu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143000"/>
            <a:ext cx="304812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33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de whether the relation is a function. If it is a function, give the domain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0481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Input     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066680" y="3581280"/>
            <a:ext cx="2438280" cy="2295360"/>
            <a:chOff x="1066680" y="3581280"/>
            <a:chExt cx="2438280" cy="2295360"/>
          </a:xfrm>
        </p:grpSpPr>
        <p:sp>
          <p:nvSpPr>
            <p:cNvPr id="61" name=""/>
            <p:cNvSpPr/>
            <p:nvPr/>
          </p:nvSpPr>
          <p:spPr>
            <a:xfrm>
              <a:off x="1066680" y="3581280"/>
              <a:ext cx="243828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             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              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             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1600" y="380988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41972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02920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71600" y="563868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59119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functio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 because every input goes to only on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048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: th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3429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:   th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70280" y="4038480"/>
                <a:ext cx="40179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095880" y="4038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, 2, 3,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4952880"/>
                <a:ext cx="38606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943600" y="49528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, 4, 9,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143000"/>
            <a:ext cx="56386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 relation where each input has exactly one outpu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143000"/>
            <a:ext cx="304812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133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de whether the relation is a function. If it is a function, give the domain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0481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Input     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66680" y="3581280"/>
            <a:ext cx="2438640" cy="2295360"/>
            <a:chOff x="1066680" y="3581280"/>
            <a:chExt cx="2438640" cy="2295360"/>
          </a:xfrm>
        </p:grpSpPr>
        <p:sp>
          <p:nvSpPr>
            <p:cNvPr id="80" name=""/>
            <p:cNvSpPr/>
            <p:nvPr/>
          </p:nvSpPr>
          <p:spPr>
            <a:xfrm>
              <a:off x="1066680" y="3581280"/>
              <a:ext cx="243864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              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          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1600" y="3809880"/>
              <a:ext cx="1219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1600" y="44197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50292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71600" y="56386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0" y="59119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functio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, because every input goes to only on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029200" y="3048120"/>
            <a:ext cx="3657600" cy="901440"/>
            <a:chOff x="5029200" y="3048120"/>
            <a:chExt cx="3657600" cy="901440"/>
          </a:xfrm>
        </p:grpSpPr>
        <p:sp>
          <p:nvSpPr>
            <p:cNvPr id="87" name=""/>
            <p:cNvSpPr/>
            <p:nvPr/>
          </p:nvSpPr>
          <p:spPr>
            <a:xfrm>
              <a:off x="5029200" y="304812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omain: the in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29200" y="34290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ange:   the out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724280" y="4038480"/>
                <a:ext cx="36831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095880" y="4038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, 2, 3,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572000" y="4952880"/>
                <a:ext cx="33526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943600" y="49528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, 6,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1143000"/>
            <a:ext cx="716292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qu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4 becom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4, where the solutio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becom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143000"/>
            <a:ext cx="160020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920" y="2743200"/>
                <a:ext cx="36637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2120" y="3505320"/>
                <a:ext cx="3325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function whe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114800" y="3581280"/>
          <a:ext cx="188136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581280"/>
                    <a:ext cx="18813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019920" y="3581280"/>
          <a:ext cx="111924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581280"/>
                    <a:ext cx="11192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62120" y="4343400"/>
                <a:ext cx="33526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5" name=""/>
          <p:cNvGraphicFramePr/>
          <p:nvPr/>
        </p:nvGraphicFramePr>
        <p:xfrm>
          <a:off x="4114800" y="4419720"/>
          <a:ext cx="161136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419720"/>
                    <a:ext cx="16113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816520" y="4400640"/>
          <a:ext cx="851040" cy="53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4400640"/>
                    <a:ext cx="851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200" y="5181480"/>
                <a:ext cx="40384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4419720" y="5257800"/>
          <a:ext cx="2192040" cy="53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257800"/>
                    <a:ext cx="2192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553080" y="5257800"/>
          <a:ext cx="1432080" cy="53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53080" y="5257800"/>
                    <a:ext cx="14320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143000"/>
            <a:ext cx="716292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qu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4 becom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4, where the solutio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becom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160020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8600" y="2666880"/>
                <a:ext cx="4268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9480" y="3505320"/>
                <a:ext cx="37958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function whe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419720" y="3581280"/>
          <a:ext cx="188100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581280"/>
                    <a:ext cx="18810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248520" y="3581280"/>
          <a:ext cx="111924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3581280"/>
                    <a:ext cx="11192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33520" y="4343400"/>
                <a:ext cx="38494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4419720" y="4419720"/>
          <a:ext cx="161136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16113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5880" y="4419720"/>
          <a:ext cx="851040" cy="53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419720"/>
                    <a:ext cx="851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04920" y="5203800"/>
                <a:ext cx="43434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4575240" y="5257800"/>
          <a:ext cx="1879560" cy="53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5240" y="5257800"/>
                    <a:ext cx="18795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477120" y="5257800"/>
          <a:ext cx="850680" cy="53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5257800"/>
                    <a:ext cx="850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1143000"/>
            <a:ext cx="716292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qua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4 becom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4, where the solution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becom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143000"/>
            <a:ext cx="1600200" cy="94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52280" y="2666880"/>
                <a:ext cx="40482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85800" y="3532320"/>
                <a:ext cx="358128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function whe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308480" y="3581280"/>
          <a:ext cx="210492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8480" y="3581280"/>
                    <a:ext cx="21049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400800" y="3581280"/>
          <a:ext cx="143208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3581280"/>
                    <a:ext cx="143208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85800" y="4343400"/>
                <a:ext cx="37069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4441680" y="4419720"/>
          <a:ext cx="156528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4419720"/>
                    <a:ext cx="15652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095880" y="4419720"/>
          <a:ext cx="851040" cy="53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419720"/>
                    <a:ext cx="851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" y="5181480"/>
                <a:ext cx="4400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4597560" y="5257800"/>
          <a:ext cx="1834920" cy="53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97560" y="5257800"/>
                    <a:ext cx="18349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342120" y="5257800"/>
          <a:ext cx="1120680" cy="53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42120" y="5257800"/>
                    <a:ext cx="11206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90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7. While on vacation, your family traveled 2040 miles in 6 days. Your average speed was         miles per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537000" y="3146400"/>
          <a:ext cx="57780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7000" y="3146400"/>
                    <a:ext cx="577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590920" y="5264280"/>
                <a:ext cx="12952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8195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819520"/>
            <a:ext cx="17528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istance trave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2819520"/>
            <a:ext cx="16765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Average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96000" y="3121200"/>
          <a:ext cx="4762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3121200"/>
                    <a:ext cx="47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324480" y="3048120"/>
            <a:ext cx="1676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886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ab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8862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stance trave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3886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f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(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4343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verage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43434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340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iles per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48769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t  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days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62520" y="5486400"/>
          <a:ext cx="62856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5486400"/>
                    <a:ext cx="6285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419720" y="5334120"/>
          <a:ext cx="11998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5334120"/>
                    <a:ext cx="1199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486400" y="5410080"/>
          <a:ext cx="465120" cy="6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6400" y="5410080"/>
                    <a:ext cx="4651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9051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a. Write a linear function that models the distance that your family traveled each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144792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34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9144000" y="5743440"/>
            <a:ext cx="20574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car.wav"/>
                                        </p:tgtEl>
                                      </p:cMediaNode>
                                    </p:audio>
                                    <p:animMotion origin="layout" path="M 0.00035 -0.00093 L -1.22552 -0.00093 L -1.22552 0.28916 L 0.2092 0.29889 L 0.21215 -0.00672 L 0.00035 -0.00093 Z">
                                      <p:cBhvr>
                                        <p:cTn id="341" dur="5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90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7. While on vacation, your family traveled 2040 miles in 6 days. Your average speed was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340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miles per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19200" y="2846520"/>
                <a:ext cx="32194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98108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b. Use the model to find the distance traveled after 1.5 days of trav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752480" y="3745080"/>
                <a:ext cx="4876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28800" y="4724280"/>
                <a:ext cx="36576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9907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7. While on vacation, your family traveled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2660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miles in </a:t>
            </a:r>
            <a:r>
              <a:rPr b="1" lang="en-US" sz="3000" spc="-1" strike="noStrike">
                <a:solidFill>
                  <a:srgbClr val="339933"/>
                </a:solidFill>
                <a:latin typeface="Times New Roman"/>
              </a:rPr>
              <a:t>7</a:t>
            </a: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 days. Your average speed was         miles per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10000" y="5897520"/>
                <a:ext cx="13525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0" y="3048120"/>
            <a:ext cx="9144000" cy="3248640"/>
            <a:chOff x="0" y="3048120"/>
            <a:chExt cx="9144000" cy="3248640"/>
          </a:xfrm>
        </p:grpSpPr>
        <p:graphicFrame>
          <p:nvGraphicFramePr>
            <p:cNvPr id="195" name=""/>
            <p:cNvGraphicFramePr/>
            <p:nvPr/>
          </p:nvGraphicFramePr>
          <p:xfrm>
            <a:off x="3537000" y="3375000"/>
            <a:ext cx="577800" cy="47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37000" y="3375000"/>
                      <a:ext cx="5778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0" y="3048120"/>
              <a:ext cx="152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Verbal Mod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52480" y="3048120"/>
              <a:ext cx="175284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Distance travel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14800" y="3048120"/>
              <a:ext cx="167652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Average spe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5796000" y="3349800"/>
            <a:ext cx="476280" cy="52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6000" y="3349800"/>
                      <a:ext cx="47628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6324480" y="3276720"/>
              <a:ext cx="16765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Ti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11480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Label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23880" y="4114800"/>
              <a:ext cx="35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Times New Roman"/>
                </a:rPr>
                <a:t>Distance travel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81480" y="411480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= </a:t>
              </a:r>
              <a:r>
                <a:rPr b="1" i="1" lang="en-US" sz="3600" spc="-1" strike="noStrike">
                  <a:solidFill>
                    <a:srgbClr val="cc3300"/>
                  </a:solidFill>
                  <a:latin typeface="Times New Roman"/>
                </a:rPr>
                <a:t>f </a:t>
              </a: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( </a:t>
              </a:r>
              <a:r>
                <a:rPr b="1" i="1" lang="en-US" sz="3600" spc="-1" strike="noStrike">
                  <a:solidFill>
                    <a:srgbClr val="cc33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3880" y="4572000"/>
              <a:ext cx="289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Times New Roman"/>
                </a:rPr>
                <a:t>Average spe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1480" y="457200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= 380 </a:t>
              </a:r>
              <a:r>
                <a:rPr b="1" lang="en-US" sz="3200" spc="-1" strike="noStrike">
                  <a:solidFill>
                    <a:srgbClr val="cc3300"/>
                  </a:solidFill>
                  <a:latin typeface="Times New Roman"/>
                </a:rPr>
                <a:t>miles per d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23880" y="51055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Times New Roman"/>
                </a:rPr>
                <a:t>Ti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81480" y="510552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= </a:t>
              </a:r>
              <a:r>
                <a:rPr b="1" i="1" lang="en-US" sz="3600" spc="-1" strike="noStrike">
                  <a:solidFill>
                    <a:srgbClr val="cc3300"/>
                  </a:solidFill>
                  <a:latin typeface="Times New Roman"/>
                </a:rPr>
                <a:t>t      </a:t>
              </a: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days</a:t>
              </a:r>
              <a:r>
                <a:rPr b="1" i="1" lang="en-US" sz="3600" spc="-1" strike="noStrike">
                  <a:solidFill>
                    <a:srgbClr val="cc3300"/>
                  </a:solidFill>
                  <a:latin typeface="Times New Roman"/>
                </a:rPr>
                <a:t>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4038480" y="6134040"/>
          <a:ext cx="628920" cy="5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6134040"/>
                    <a:ext cx="6289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495680" y="5981760"/>
          <a:ext cx="120024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5981760"/>
                    <a:ext cx="1200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562720" y="6058080"/>
          <a:ext cx="465120" cy="62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62720" y="6058080"/>
                    <a:ext cx="46512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53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Line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9051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Times New Roman"/>
              </a:rPr>
              <a:t>a. Write a linear function that models the distance that your family traveled each da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144792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380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20:49:50Z</dcterms:created>
  <dc:creator>Teacher</dc:creator>
  <dc:description/>
  <dc:language>en-US</dc:language>
  <cp:lastModifiedBy>damon.skelton</cp:lastModifiedBy>
  <dcterms:modified xsi:type="dcterms:W3CDTF">2004-10-01T20:01:27Z</dcterms:modified>
  <cp:revision>23</cp:revision>
  <dc:subject/>
  <dc:title>PowerPoint Presentation</dc:title>
</cp:coreProperties>
</file>